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8E4A-04E0-4760-B450-856AD282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4415C-5CD6-421D-B583-F13C6081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9F236-7ED5-4E2D-8D90-FB6881A0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A2869-FF43-41E6-87E7-D43E34A1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01A3A-20B9-48D7-BA9B-C822105F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1C4A9-A965-4FE7-AD68-932B3341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E31F4-724B-4198-B4C6-946EB68E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1FB61-71D4-4E22-828E-A5459158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E86DF-AD49-4CB6-BBCF-8264A563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100F4-5BF7-4C86-95EB-BA8A623B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D0534-550C-4192-B760-926BADA0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B2F04-9909-4087-A2CB-A082D64D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34A5D-584F-4A09-98C4-04D30422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A3CB9-BF94-436E-9B1A-677742BD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BA4CD-0BED-4A6A-9CE7-9183D3B3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1959C-1792-46F1-AE47-B66E6842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25986-35DE-4204-8108-A5E2E8B2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BD51C-CBDA-4627-9E7D-9FB31927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26701-94DE-4354-BAF1-C405B798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31B9F-F0FF-4B72-B1A5-E563EB8C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E0F08-C83D-4EFF-893E-2D6A99D2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830B2-CEEC-4640-8802-5B2F22CF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EEE7-4DF6-4B25-BD42-16254EA4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0DD55-C0F8-4240-B587-B7B87C40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6079E-EF93-4743-A350-9FAE32CC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07750-6DE3-4635-B11A-3102AD85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4308E-FB6C-413F-AA5D-274AC8CA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120B1-9ED9-4C65-B1A6-E7F0D74A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ABE7A-7FC5-40C9-9EF4-FC274D15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D40F9-EB5C-455B-B109-7614280C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3542-C00A-4E0D-8FC2-8EC1B018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60117-DCC7-443F-BE0D-0047E7B9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68221-9B7F-40B5-B195-CB645DE3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3DC66-5B78-479F-AC7E-F89134D6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86AC-140E-48BE-81DC-7C766F5D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B7264-8EAD-4784-8CB9-31D142F5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2BFA-4880-4556-8FC5-AA7F8E0D2CD8}" type="slidenum">
              <a:rPr b="1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Conector drep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onector drep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ector drep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ector drep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reptunghi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drep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5136-F336-4CB2-A919-88643F15C64E}" type="slidenum">
              <a:rPr b="1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Conector drep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ector drep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reptunghi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ector drep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ector drep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ector drep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C74E-E0CF-474A-93EF-B9D2061EE7E2}" type="slidenum">
              <a:rPr b="1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LES T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  <a:ea typeface="Arial"/>
              </a:rPr>
              <a:t>É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L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  <a:ea typeface="Arial"/>
              </a:rPr>
              <a:t>É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VISIONS EN FRAN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575f6d"/>
                </a:solidFill>
                <a:latin typeface="Arial Unicode MS"/>
                <a:ea typeface="Arial Unicode MS"/>
              </a:rPr>
              <a:t>CANAL+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5" name="Imagine 6" descr="logo-canal-plus.jpg"/>
          <p:cNvPicPr/>
          <p:nvPr/>
        </p:nvPicPr>
        <p:blipFill>
          <a:blip r:embed="rId1"/>
          <a:stretch/>
        </p:blipFill>
        <p:spPr>
          <a:xfrm>
            <a:off x="2286000" y="0"/>
            <a:ext cx="3276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omic"/>
              </a:rPr>
              <a:t>LES PROGRAMES SONT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 •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 •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Ciném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 •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Séries/Fic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 •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Divertissmen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 •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Docs/Inf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Dessins anim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  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missions culturelles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mic"/>
              </a:rPr>
              <a:t>AU GRAND JOURNAL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haroni"/>
              </a:rPr>
              <a:t>•</a:t>
            </a:r>
            <a:r>
              <a:rPr b="0" lang="ro-RO" sz="3600" spc="-1" strike="noStrike">
                <a:solidFill>
                  <a:srgbClr val="ff0000"/>
                </a:solidFill>
                <a:latin typeface="Chiller"/>
                <a:ea typeface="Aharoni"/>
              </a:rPr>
              <a:t>Au grand journal 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  <a:ea typeface="Aharon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Bref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Coming nex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Daily Mouloud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Kamel le magicia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’envers du d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La boite 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question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La m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 de soluwei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 lie du grand journa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 point com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 sav d’Omar et Fred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appin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0" name="Substituent conținut 5" descr="Le_grand_journal_canal_logo.jpg"/>
          <p:cNvPicPr/>
          <p:nvPr/>
        </p:nvPicPr>
        <p:blipFill>
          <a:blip r:embed="rId1"/>
          <a:stretch/>
        </p:blipFill>
        <p:spPr>
          <a:xfrm>
            <a:off x="4603680" y="1600200"/>
            <a:ext cx="2976480" cy="2351160"/>
          </a:xfrm>
          <a:prstGeom prst="rect">
            <a:avLst/>
          </a:prstGeom>
          <a:ln w="0">
            <a:noFill/>
          </a:ln>
        </p:spPr>
      </p:pic>
      <p:pic>
        <p:nvPicPr>
          <p:cNvPr id="151" name="Substituent conținut 6" descr="GRAND_JOURNAL_CANAL_PLUS.jpg"/>
          <p:cNvPicPr/>
          <p:nvPr/>
        </p:nvPicPr>
        <p:blipFill>
          <a:blip r:embed="rId2"/>
          <a:stretch/>
        </p:blipFill>
        <p:spPr>
          <a:xfrm>
            <a:off x="4419720" y="4495680"/>
            <a:ext cx="362088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104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575f6d"/>
                </a:solidFill>
                <a:latin typeface="Century Schoolbook"/>
              </a:rPr>
              <a:t>Le Grand Journal</a:t>
            </a:r>
            <a:r>
              <a:rPr b="0" lang="ro-RO" sz="2800" spc="-1" strike="noStrike">
                <a:solidFill>
                  <a:srgbClr val="575f6d"/>
                </a:solidFill>
                <a:latin typeface="Century Schoolbook"/>
              </a:rPr>
              <a:t> est une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ro-RO" sz="2800" spc="-1" strike="noStrike">
                <a:solidFill>
                  <a:srgbClr val="575f6d"/>
                </a:solidFill>
                <a:latin typeface="Century Schoolbook"/>
              </a:rPr>
              <a:t>é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mission de</a:t>
            </a:r>
            <a:r>
              <a:rPr b="1" i="1" lang="ro-RO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 </a:t>
            </a:r>
            <a:r>
              <a:rPr b="1" i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t</a:t>
            </a:r>
            <a:r>
              <a:rPr b="1" lang="ro-RO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é</a:t>
            </a:r>
            <a:r>
              <a:rPr b="1" i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l</a:t>
            </a:r>
            <a:r>
              <a:rPr b="1" lang="ro-RO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é</a:t>
            </a:r>
            <a:r>
              <a:rPr b="1" i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vision 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fran</a:t>
            </a:r>
            <a:r>
              <a:rPr b="1" lang="ro-RO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ç</a:t>
            </a:r>
            <a:r>
              <a:rPr b="1" i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aise</a:t>
            </a:r>
            <a:r>
              <a:rPr b="1" i="1" lang="ro-RO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, créée en </a:t>
            </a:r>
            <a:r>
              <a:rPr b="1" i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septembre2004</a:t>
            </a:r>
            <a:r>
              <a:rPr b="0" lang="ro-RO" sz="2800" spc="-1" strike="noStrike">
                <a:solidFill>
                  <a:srgbClr val="575f6d"/>
                </a:solidFill>
                <a:latin typeface="Century Schoolbook"/>
              </a:rPr>
              <a:t>. Elle est diffusée sur 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CANAL+</a:t>
            </a:r>
            <a:r>
              <a:rPr b="0" lang="ro-RO" sz="2800" spc="-1" strike="noStrike">
                <a:solidFill>
                  <a:srgbClr val="575f6d"/>
                </a:solidFill>
                <a:latin typeface="Century Schoolbook"/>
              </a:rPr>
              <a:t> en clair et généralement en direct, du lundi au vendredi de 19h10 à 20h05 puis de 20h25 à 20h55 en direct sur Canal+ et présentée par 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Michael Denisot</a:t>
            </a:r>
            <a:r>
              <a:rPr b="0" lang="ro-RO" sz="2800" spc="-1" strike="noStrike">
                <a:solidFill>
                  <a:srgbClr val="575f6d"/>
                </a:solidFill>
                <a:latin typeface="Century Schoolbook"/>
              </a:rPr>
              <a:t> 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3810240" cy="2295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0957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74674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Nos enfants cheri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entury Schoolbook"/>
              </a:rPr>
              <a:t>Nos enfants chéris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 est une </a:t>
            </a:r>
            <a:r>
              <a:rPr b="1" lang="ro-RO" sz="2800" spc="-1" strike="noStrike">
                <a:solidFill>
                  <a:srgbClr val="000000"/>
                </a:solidFill>
                <a:latin typeface="Century Schoolbook"/>
              </a:rPr>
              <a:t>série télévisée française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 créé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par Benoît Cohen e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391520" y="457200"/>
            <a:ext cx="1181160" cy="1324080"/>
          </a:xfrm>
          <a:prstGeom prst="rect">
            <a:avLst/>
          </a:prstGeom>
          <a:ln w="0">
            <a:noFill/>
          </a:ln>
        </p:spPr>
      </p:pic>
      <p:pic>
        <p:nvPicPr>
          <p:cNvPr id="159" name="Substituent text 12" descr=""/>
          <p:cNvPicPr/>
          <p:nvPr/>
        </p:nvPicPr>
        <p:blipFill>
          <a:blip r:embed="rId2"/>
          <a:stretch/>
        </p:blipFill>
        <p:spPr>
          <a:xfrm>
            <a:off x="3886200" y="3200400"/>
            <a:ext cx="4321080" cy="3429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90720" y="3276720"/>
            <a:ext cx="2306520" cy="3019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2286000"/>
            <a:ext cx="823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iffusée à 2007 sur Ca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+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artir d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ptembr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74674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5f6d"/>
                </a:solidFill>
                <a:latin typeface="Century Schoolbook"/>
              </a:rPr>
              <a:t>La Nouvelle Edition</a:t>
            </a:r>
            <a:endParaRPr b="0" lang="en-US" sz="3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7386480" cy="6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4" name="Substituent text 12" descr=""/>
          <p:cNvPicPr/>
          <p:nvPr/>
        </p:nvPicPr>
        <p:blipFill>
          <a:blip r:embed="rId1"/>
          <a:stretch/>
        </p:blipFill>
        <p:spPr>
          <a:xfrm>
            <a:off x="4800600" y="0"/>
            <a:ext cx="3827520" cy="5105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40957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029200" cy="3124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4219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886200" y="3143160"/>
            <a:ext cx="4971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Zap Spor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724280" y="11448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4191120" cy="3581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46101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Pourquoi cette cha</a:t>
            </a:r>
            <a:r>
              <a:rPr b="0" lang="ro-RO" sz="3200" spc="-1" strike="noStrike">
                <a:solidFill>
                  <a:srgbClr val="575f6d"/>
                </a:solidFill>
                <a:latin typeface="Century Schoolbook"/>
              </a:rPr>
              <a:t>î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ne 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a cha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 est tr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è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 int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ssant et il a des programmes belle.Il a des reporters tres qualifi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l nous aide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à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rlons et il nous apprende fran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is.La cha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 nous inform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sur les nouvelles du Franc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resan adrian</cp:lastModifiedBy>
  <dcterms:modified xsi:type="dcterms:W3CDTF">2011-10-30T16:48:1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